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7B2-FFE3-491B-815F-3A7CBC96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963-24ED-4FF6-8EEA-5B9FA4B8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A34-A051-4413-AFCF-6D3AE175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F8A-EEA7-4A30-80FC-4F078460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87A-F591-4269-8555-90132435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99E-5AF7-4D6D-A64F-37E9286D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570-5EAA-4DD6-BC1F-73D65FC3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234-8367-4447-83AB-F729A91F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BB9-BD94-45D8-ACCE-70329C7C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0D4-F8A6-4101-AB10-1A31A4D4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690-3461-461D-8037-43222B7D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578-36DD-4147-8A52-845C07FE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F865-8EB1-499D-A4AF-5F74723C3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ohfw.nic.in/NRHM/Documents" TargetMode="External"/><Relationship Id="rId2" Type="http://schemas.openxmlformats.org/officeDocument/2006/relationships/hyperlink" Target="http://www.maha-arogya.gov.i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 on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and Sanitation Committ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sion under NR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b Sekhar Dat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.02.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of bank ac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ed revolving fund – granted in install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on the joint account holders – states to dec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may be – Sarpanch/President of VHSC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A/ANM/AW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etails and account register maintenance by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to decide (ASHA/VHS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may be - ASHA/ANM/AW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vision and monitoring of the expenditure and records b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M/MPW/Gram Panchay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intain updated Household Survey data to enable need based interven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of details of activities undertaken, expenditure incurred etc. will be maintained for public scrutin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ically reviewed by the ANM/Sarpan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level Panchayat Samiti will review functioning and progress of activities of VHS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trict Mission through members/block facilitators elicit information on the functioning of VHS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base may be maintained on VHS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Role of PRI in the success of the NRHM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 are seen as critical to the Planning, Implementation, and Monitoring of the NRH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to NRHM success 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ectoral converg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Community ownership steered through village level health committees at the level of the Gram Panchayat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Well functioning public sector health system with support  from the private sector. 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decentr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infrastructure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based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use of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of Ind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Rural Health Mission (2005-12), Mission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of India. National Rural Health Miss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ly village health nutrition day, MOHFW, GO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mohfw.nic.in/NRHM/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maha-arogya.gov.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Thanks t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ct Health Office, Ward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Arun Am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ct Tuberculosis Officer and DHO In-charge, Ward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Dha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ct Training Officer, Ward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ed thrust on PRI under NR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tion of VHSC – a targeted inter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 an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of bank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ed Thrust on PRIs under NR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HM framework revolves around activation of PRIs in the rural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nts of health take front s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environmental sanitation and nutrition identified as vital components for better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e starts from the village level and flows 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tep being merger of Panchayat Raj Village health committees and water and sanitation committe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tion of VHSC – a targeted inter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no. of members: increased scope of 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A – an institution in itself, most ambitious intervention under NRH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panch, Secretary, AWW, ANM, ASHA, teachers, village members, CBOs, SHGs are members, with due representation from each hamlet, community and weaker s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 female members (SC/ST/OBC grou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 from NGO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s have a huge task of building capacity of these Committee memb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o empower them to adapt to their new role: monitoring of activities, evaluate planning process and maintenance of accou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hand holding is important ? NGOs to come into pi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planning process to emerge through community development proces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 and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hold survey: maintain rec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health repo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village in the Gram Sab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all members of health support team and work as a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pl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detaile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ory Rapid 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SHAs and AWWs to collec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nd supervise ASHAs and AWWs to carry out all R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 village health nutrition days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H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death*, birth and marriage regi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 and responsibilities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clean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for environmental sanitation – organize public health activities like cleanliness drives, sanitation drives, school health activities, health and nutritio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F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accounts – of untied funds under NR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rage funds from other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s of the Committ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vener will sign the attendance registers of the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Ws, Mid-Day meal Sanchalak, MPWs, and AN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Ws and ANMs to submit a bi-monthly village repor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committee along with the plan for next two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Committee would decide format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 of the bi-monthly repo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ittee will receive funds of Rs 10,000 per year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und may be used as per the discretion of the VH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yardsticks for monitoring at the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HM indicators translated into Village health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for monitoring at the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Regi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of the A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Calend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t and Maternal death au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dialogue (Jan Samb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4:52:39Z</dcterms:created>
  <dc:creator>Dr. Shib Sekhar</dc:creator>
  <dc:description/>
  <dc:language>en-US</dc:language>
  <cp:lastModifiedBy>ShibSekhar</cp:lastModifiedBy>
  <dcterms:modified xsi:type="dcterms:W3CDTF">2008-02-06T15:13:25Z</dcterms:modified>
  <cp:revision>26</cp:revision>
  <dc:subject/>
  <dc:title>VHSC</dc:title>
</cp:coreProperties>
</file>